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765DE-5A6A-4308-82B7-A93F2F208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C5A40-FEB3-488B-92EE-78AFF1C3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27984-F88B-41BF-BC76-1A636A8C0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B01E5-61C6-4463-B47A-2F3993C88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3E1A3-D4B5-4BD1-9970-C9A40B732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14F7C-95BA-447B-868F-7E1F7BF12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15535-DE5C-42A6-A19D-2BB4176C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534D5-ADAA-4043-A47E-0678A80C1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6FC46-B9AA-4A60-AB6F-0FE9A3CD4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24766-8506-4107-9285-76AE90BA2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C795C-C372-437B-B17D-099653520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ACFD-F2FB-4055-92E4-D6C50273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C5D0E-DB0C-4CC6-9AF1-B97F80447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10010-1460-4358-9AD6-EEF3125A2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4F147-28D7-4DB8-AC6B-F851C10BA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B1236-709B-4675-8A03-73055BCE9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D3DC3-7AAA-4B27-A8FD-4BADD48F8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90E5-9697-4AFF-AE44-C708619DB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FED37-2B38-47A2-BD0E-57ACADA9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EA455-C9EB-47ED-B83A-469B796D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A16C-CCC2-4225-B48F-79E40C28D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E1CC-6DFF-4EF1-A4C0-983B7D73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8619-B144-4AFA-8FB3-80551D21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740A-BF7A-4638-9C72-A591F2E75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Quick Start Guide</a:t>
            </a:r>
            <a:endParaRPr b="0" lang="en-US" sz="4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Main Menu</a:t>
            </a: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ad HydoStar by picking Hydro.bat installed in the C:\ directory</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odes come from Carlson Software.  </a:t>
            </a:r>
            <a:r>
              <a:rPr b="1" lang="en-US" sz="3200" spc="-1" strike="noStrike">
                <a:solidFill>
                  <a:srgbClr val="ffffff"/>
                </a:solidFill>
                <a:latin typeface="Arial"/>
              </a:rPr>
              <a:t>	</a:t>
            </a:r>
            <a:r>
              <a:rPr b="1" lang="en-US" sz="3200" spc="-1" strike="noStrike">
                <a:solidFill>
                  <a:srgbClr val="ffffff"/>
                </a:solidFill>
                <a:latin typeface="Arial"/>
              </a:rPr>
              <a:t>  Email support@carlsonsw.com for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ll HydroStar decode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92" name="" descr=""/>
          <p:cNvPicPr/>
          <p:nvPr/>
        </p:nvPicPr>
        <p:blipFill>
          <a:blip r:embed="rId1"/>
          <a:stretch/>
        </p:blipFill>
        <p:spPr>
          <a:xfrm>
            <a:off x="533520" y="415296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Download my emailed data files into the \HYDRO directory</a:t>
            </a:r>
            <a:endParaRPr b="0" lang="en-US" sz="4400" spc="-1" strike="noStrike">
              <a:solidFill>
                <a:srgbClr val="cbcbcb"/>
              </a:solidFill>
              <a:latin typeface="Times New Roman"/>
            </a:endParaRPr>
          </a:p>
        </p:txBody>
      </p:sp>
      <p:sp>
        <p:nvSpPr>
          <p:cNvPr id="94" name="PlaceHolder 2"/>
          <p:cNvSpPr>
            <a:spLocks noGrp="1"/>
          </p:cNvSpPr>
          <p:nvPr>
            <p:ph/>
          </p:nvPr>
        </p:nvSpPr>
        <p:spPr>
          <a:xfrm>
            <a:off x="685440" y="1981080"/>
            <a:ext cx="8458200" cy="3200400"/>
          </a:xfrm>
          <a:prstGeom prst="rect">
            <a:avLst/>
          </a:prstGeom>
          <a:noFill/>
          <a:ln w="0">
            <a:noFill/>
          </a:ln>
        </p:spPr>
        <p:txBody>
          <a:bodyPr lIns="92160" rIns="92160" tIns="46080" bIns="46080" anchor="t">
            <a:normAutofit fontScale="84000"/>
          </a:bodyPr>
          <a:p>
            <a:pPr marL="288000" indent="-28800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example job files are as following:</a:t>
            </a:r>
            <a:endParaRPr b="1" lang="en-US" sz="2000" spc="-1" strike="noStrike">
              <a:solidFill>
                <a:srgbClr val="ffffff"/>
              </a:solidFill>
              <a:latin typeface="Arial"/>
            </a:endParaRPr>
          </a:p>
          <a:p>
            <a:pPr lvl="1" marL="623880" indent="-2397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Barge.veh (AutoCad drawing depicting barge for HydroStar.)</a:t>
            </a:r>
            <a:endParaRPr b="1" lang="en-US" sz="1800" spc="-1" strike="noStrike">
              <a:solidFill>
                <a:srgbClr val="ffffff"/>
              </a:solidFill>
              <a:latin typeface="Arial"/>
            </a:endParaRPr>
          </a:p>
          <a:p>
            <a:pPr lvl="1" marL="623880" indent="-2397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exampe.pln (AutoCad drawing depicting site for HydroStar .)</a:t>
            </a:r>
            <a:endParaRPr b="1" lang="en-US" sz="1800" spc="-1" strike="noStrike">
              <a:solidFill>
                <a:srgbClr val="ffffff"/>
              </a:solidFill>
              <a:latin typeface="Arial"/>
            </a:endParaRPr>
          </a:p>
          <a:p>
            <a:pPr lvl="1" marL="623880" indent="-2397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example.cl (A centerline going right to left in the site drawing starting with 0+00 stationing.)</a:t>
            </a:r>
            <a:endParaRPr b="1" lang="en-US" sz="1800" spc="-1" strike="noStrike">
              <a:solidFill>
                <a:srgbClr val="ffffff"/>
              </a:solidFill>
              <a:latin typeface="Arial"/>
            </a:endParaRPr>
          </a:p>
          <a:p>
            <a:pPr marL="288000" indent="-28800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need to load these files in HydroStar</a:t>
            </a:r>
            <a:endParaRPr b="1" lang="en-US" sz="1800" spc="-1" strike="noStrike">
              <a:solidFill>
                <a:srgbClr val="ffffff"/>
              </a:solidFill>
              <a:latin typeface="Arial"/>
            </a:endParaRPr>
          </a:p>
          <a:p>
            <a:pPr lvl="1" marL="623880" indent="-2397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Load Barge.veh in HydroStar’s main menu - pick OPTIONS then CONTINUE then OPTIONS then HYDROSTAR APPEARANCE then VEHICLE FILE then pick BARGE.VEH then BACK then BACK.</a:t>
            </a:r>
            <a:endParaRPr b="1" lang="en-US" sz="1800" spc="-1" strike="noStrike">
              <a:solidFill>
                <a:srgbClr val="ffffff"/>
              </a:solidFill>
              <a:latin typeface="Arial"/>
            </a:endParaRPr>
          </a:p>
          <a:p>
            <a:pPr lvl="1" marL="623880" indent="-2397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To load both example.pln and example.cl in HydroStar’s main menu - pick PROJECT then LOAD PLAN VIEW FILE then pick  EXAMPLE.PLN and then LOAD CENTERLINE FILE then pick EXAMPLE.CL then BACK.</a:t>
            </a:r>
            <a:endParaRPr b="1" lang="en-US" sz="1800" spc="-1" strike="noStrike">
              <a:solidFill>
                <a:srgbClr val="ffffff"/>
              </a:solidFill>
              <a:latin typeface="Arial"/>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9601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Alignment</a:t>
            </a: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HydroStar you need to setup the Datum and Zone your are working in. To set the Datum and Zone - pick OPTIONS then CONTINUE then OPTIONS then ALIGNMENT OPTIONS then ZONE then UTM (for this example) then UNIT then METRIC then BACK.</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PS Alignment needs to be entered and stored to a job file.</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you have 2 to 4 control point.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2 to 4 control points should be at the outside edges of the job.</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Alignment</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6000"/>
          </a:bodyPr>
          <a:p>
            <a:pPr marL="329040" indent="-32904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align:</a:t>
            </a:r>
            <a:endParaRPr b="1" lang="en-US" sz="20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the HydroStar main menu - pick OPTIONS then CONTINUE then GPS SETUP. If the equipment does not display your receiver type, then pick EQUIPMENT and select your receiver then BACK.</a:t>
            </a:r>
            <a:endParaRPr b="1" lang="en-US" sz="1800" spc="-1" strike="noStrike">
              <a:solidFill>
                <a:srgbClr val="ffffff"/>
              </a:solidFill>
              <a:latin typeface="Arial"/>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HydroStar’s main menu -  pick OPTIONS then CONTINUE then ALIGN then A for ADD.</a:t>
            </a:r>
            <a:endParaRPr b="1" lang="en-US" sz="1800" spc="-1" strike="noStrike">
              <a:solidFill>
                <a:srgbClr val="ffffff"/>
              </a:solidFill>
              <a:latin typeface="Arial"/>
            </a:endParaRPr>
          </a:p>
          <a:p>
            <a:pPr lvl="2" marL="1097280" indent="-21924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this point one of 2 methods two create alignment RTK GPS points.</a:t>
            </a:r>
            <a:endParaRPr b="1" lang="en-US" sz="1600" spc="-1" strike="noStrike">
              <a:solidFill>
                <a:srgbClr val="ffffff"/>
              </a:solidFill>
              <a:latin typeface="Arial"/>
            </a:endParaRPr>
          </a:p>
          <a:p>
            <a:pPr lvl="3" marL="1536120" indent="-21924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f you have post processed the control points (Keep control points to only 2 to 4 points on the outside edges of your construction job.) Use Option 1 to type in UTM coordinates or your jobs control point coordinates. For RTK GPS  points use Option 1 Enter Lat/Long/Z.</a:t>
            </a:r>
            <a:endParaRPr b="1" lang="en-US" sz="1400" spc="-1" strike="noStrike">
              <a:solidFill>
                <a:srgbClr val="ffffff"/>
              </a:solidFill>
              <a:latin typeface="Arial"/>
            </a:endParaRPr>
          </a:p>
          <a:p>
            <a:pPr lvl="3" marL="1536120" indent="-219240">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If your control points are only known coordinate values not Lat/Long/Z values. Use Option 1 to type in UTM coordinates or your jobs control point coordinates. For RTK GPS points use Option 2 to Read GPS.  This method you must travel and occupy the control points when reading GPS.</a:t>
            </a:r>
            <a:endParaRPr b="1" lang="en-US" sz="1400" spc="-1" strike="noStrike">
              <a:solidFill>
                <a:srgbClr val="ffffff"/>
              </a:solidFill>
              <a:latin typeface="Arial"/>
            </a:endParaRPr>
          </a:p>
          <a:p>
            <a:pPr lvl="2" marL="1097280" indent="-219240">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n exiting Alignment store alignment file to a filename for recall.</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Alignment </a:t>
            </a:r>
            <a:r>
              <a:rPr b="0" lang="en-US" sz="3200" spc="-1" strike="noStrike">
                <a:solidFill>
                  <a:srgbClr val="cbcbcb"/>
                </a:solidFill>
                <a:latin typeface="Times New Roman"/>
              </a:rPr>
              <a:t>(cont.)</a:t>
            </a:r>
            <a:endParaRPr b="0" lang="en-US" sz="32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tored Alignment file needs to be Automatically loaded each time the rovers are started up.  To do this in HydroStar’s main menu - pick OPTIONS then CONTINUE then OPTIONS then ALIGNMENT OPTIONS then pick AUTO LOAD LAST ALIGNMENT and change it to Yes then BACK then BACK.</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to Navigating make sure HydroStar is setup to read two RTK GPS receivers.  From the HydroStar main menu - pick OPTIONS then CONTINUE then OPTIONS then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GENERAL OPTIONS then check that</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both USE FIRST &amp; SECOND GP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receiver is turned on and the proper</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COM ports.</a:t>
            </a:r>
            <a:endParaRPr b="1" lang="en-US" sz="1800" spc="-1" strike="noStrike">
              <a:solidFill>
                <a:srgbClr val="ffffff"/>
              </a:solidFill>
              <a:latin typeface="Arial"/>
            </a:endParaRPr>
          </a:p>
          <a:p>
            <a:pPr marL="332640" indent="-33264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k ROD HEIGHT and enter 12 then</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BACK then BACK to return to th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main menu.</a:t>
            </a:r>
            <a:endParaRPr b="1" lang="en-US" sz="18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101" name="" descr=""/>
          <p:cNvPicPr/>
          <p:nvPr/>
        </p:nvPicPr>
        <p:blipFill>
          <a:blip r:embed="rId1"/>
          <a:stretch/>
        </p:blipFill>
        <p:spPr>
          <a:xfrm>
            <a:off x="5486400" y="4133880"/>
            <a:ext cx="3505320" cy="26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Navigating the Barge with RTK GPS</a:t>
            </a:r>
            <a:endParaRPr b="0" lang="en-US" sz="3600" spc="-1" strike="noStrike">
              <a:solidFill>
                <a:srgbClr val="cbcbc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lignment procedure permanently aligns the Base and Rover receivers to your jobs coordinates.  Each day the Javad RTK GPS rover operator only needs to turn the units on and with all cables and power plugged in he goes to Monitor.  When both Javad rovers are fixed he goes to Navigate and picks enter coordinates.  The coordinates for each GPS receiver (#1 and #4) need to be calculated in advance for the exact location needed when pile driving.  The operator enters those coordinates for point 1 (GPS Antenna #1) and point 2 (GPS Antenna #2).  They will immediately go to a stakeout screen displaying the stakeout information for both receivers and will visually see the barge.veh in the plan view.</a:t>
            </a:r>
            <a:endParaRPr b="1" lang="en-US" sz="1800" spc="-1" strike="noStrike">
              <a:solidFill>
                <a:srgbClr val="ffffff"/>
              </a:solidFill>
              <a:latin typeface="Arial"/>
            </a:endParaRPr>
          </a:p>
          <a:p>
            <a:pPr marL="308520" indent="-30852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screen needs to be viewed by the barge operator also. The barge operator navigates to point #1 so the first GPS Antenna is over the first stakeout coordinate values. Drop the pilon (anchor) and then pivot the barge to navigate so that the GPS Antenna #4 is  over the second entered coordinate values.  Drop pilons/Anch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HydroStar additional menus</a:t>
            </a: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7772400" cy="327672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ot Menu in HydroStar allow you to plot points on the site plan view.</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lect stores points at the GPS Antenna #1 by time or distance.  </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h routines expect a coordinate file to be created.  From the HydroStar main menu - pick OPTIONS then CONTINUE then OPTIONS then GENERAL OPTIONS then COORDINATE FILE then pick ENTER NAME and type in new filename.</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 you be using a rover with SurvStar to check points on the pile driving template prior to pile driving? </a:t>
            </a:r>
            <a:endParaRPr b="1"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6" name=""/>
          <p:cNvSpPr/>
          <p:nvPr/>
        </p:nvSpPr>
        <p:spPr>
          <a:xfrm>
            <a:off x="685800" y="5715000"/>
            <a:ext cx="7772400" cy="68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ail Jim Carlson at: </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carlson@carlsonsw.com</a:t>
            </a:r>
            <a:endParaRPr b="0" lang="en-US" sz="2000" spc="-1" strike="noStrike">
              <a:solidFill>
                <a:srgbClr val="ffffff"/>
              </a:solidFill>
              <a:latin typeface="Times New Roman"/>
            </a:endParaRPr>
          </a:p>
        </p:txBody>
      </p:sp>
      <p:sp>
        <p:nvSpPr>
          <p:cNvPr id="107"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NY ADDITIONAL INF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8T05:47:16Z</dcterms:created>
  <dc:creator>User</dc:creator>
  <dc:description/>
  <dc:language>en-US</dc:language>
  <cp:lastModifiedBy>David Carlson</cp:lastModifiedBy>
  <cp:lastPrinted>1999-10-18T08:34:20Z</cp:lastPrinted>
  <dcterms:modified xsi:type="dcterms:W3CDTF">2002-10-03T13:24:45Z</dcterms:modified>
  <cp:revision>25</cp:revision>
  <dc:subject/>
  <dc:title>HydroStar Overview</dc:title>
</cp:coreProperties>
</file>